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move the slide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alkboard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Lucida Grande"/>
                <a:ea typeface="Heiti SC Light"/>
              </a:rPr>
              <a:t>数组中是不能存储基本数据类型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2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3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4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5">
              <a:spcBef>
                <a:spcPts val="901"/>
              </a:spcBef>
              <a:buClr>
                <a:srgbClr val="ffffff"/>
              </a:buClr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6">
              <a:spcBef>
                <a:spcPts val="901"/>
              </a:spcBef>
              <a:buClr>
                <a:srgbClr val="ffffff"/>
              </a:buClr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1269720" y="2946240"/>
            <a:ext cx="510516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6000"/>
          </a:bodyPr>
          <a:p>
            <a:pPr marL="61776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10328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marL="1437840" indent="-3085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3" marL="187236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4" marL="23162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5" marL="23162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6" marL="23162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7607160" y="2946240"/>
            <a:ext cx="412776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5000"/>
          </a:bodyPr>
          <a:p>
            <a:pPr marL="52812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88308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marL="122976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3" marL="160128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4" marL="198108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5" marL="198108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6" marL="198108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body"/>
          </p:nvPr>
        </p:nvSpPr>
        <p:spPr>
          <a:xfrm>
            <a:off x="1269720" y="1066320"/>
            <a:ext cx="10464840" cy="762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74844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marL="123480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2" marL="170964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3" marL="221796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4" marL="273780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5" marL="273780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6" marL="273780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2000"/>
          </a:bodyPr>
          <a:p>
            <a:pPr marL="77400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marL="127620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2" marL="176724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3" marL="229284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4" marL="283032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5" marL="283032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6" marL="283032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69720" y="7365960"/>
            <a:ext cx="10464840" cy="1828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1269720" y="5206680"/>
            <a:ext cx="1046484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5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2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3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4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5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6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596520" y="4939920"/>
            <a:ext cx="6032520" cy="3048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6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3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4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5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6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596520" y="1790280"/>
            <a:ext cx="6032520" cy="3048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60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1269720" y="2946240"/>
            <a:ext cx="510516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6000"/>
          </a:bodyPr>
          <a:p>
            <a:pPr marL="61776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10328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marL="1437840" indent="-3085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3" marL="187236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4" marL="23162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5" marL="23162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6" marL="23162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1000"/>
          </a:bodyPr>
          <a:p>
            <a:pPr marL="739440" indent="-3697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1236600" indent="-3697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marL="1721520" indent="-36936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3" marL="2242080" indent="-3697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4" marL="2773440" indent="-3697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5" marL="2773440" indent="-3697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6" marL="2773440" indent="-3697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Chalkboard"/>
                <a:ea typeface="Heiti SC Light"/>
              </a:rPr>
              <a:t>第十九章：数字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Chalkboard"/>
                <a:ea typeface="Heiti SC Light"/>
              </a:rPr>
              <a:t>数字对象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6" name=""/>
          <p:cNvSpPr/>
          <p:nvPr/>
        </p:nvSpPr>
        <p:spPr>
          <a:xfrm>
            <a:off x="876240" y="2857680"/>
            <a:ext cx="112395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ffffff"/>
                </a:solidFill>
                <a:latin typeface="Chalkboard"/>
                <a:ea typeface="Heiti SC Light"/>
              </a:rPr>
              <a:t>描述一个数字两种方式：</a:t>
            </a:r>
            <a:endParaRPr b="0" lang="en-US" sz="42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halkboard"/>
                <a:ea typeface="Heiti SC Light"/>
              </a:rPr>
              <a:t>(1)</a:t>
            </a:r>
            <a:r>
              <a:rPr b="0" lang="zh-CN" sz="4200" spc="-1" strike="noStrike">
                <a:solidFill>
                  <a:srgbClr val="ffffff"/>
                </a:solidFill>
                <a:latin typeface="Chalkboard"/>
                <a:ea typeface="Heiti SC Light"/>
              </a:rPr>
              <a:t>基本数据类型：</a:t>
            </a:r>
            <a:r>
              <a:rPr b="0" lang="en-US" sz="4200" spc="-1" strike="noStrike">
                <a:solidFill>
                  <a:srgbClr val="ffffff"/>
                </a:solidFill>
                <a:latin typeface="Chalkboard"/>
                <a:ea typeface="Heiti SC Light"/>
              </a:rPr>
              <a:t>int</a:t>
            </a:r>
            <a:r>
              <a:rPr b="0" lang="zh-CN" sz="4200" spc="-1" strike="noStrike">
                <a:solidFill>
                  <a:srgbClr val="ffffff"/>
                </a:solidFill>
                <a:latin typeface="Chalkboard"/>
                <a:ea typeface="Heiti SC Light"/>
              </a:rPr>
              <a:t>，</a:t>
            </a:r>
            <a:r>
              <a:rPr b="0" lang="en-US" sz="4200" spc="-1" strike="noStrike">
                <a:solidFill>
                  <a:srgbClr val="ffffff"/>
                </a:solidFill>
                <a:latin typeface="Chalkboard"/>
                <a:ea typeface="Heiti SC Light"/>
              </a:rPr>
              <a:t>float</a:t>
            </a:r>
            <a:r>
              <a:rPr b="0" lang="zh-CN" sz="4200" spc="-1" strike="noStrike">
                <a:solidFill>
                  <a:srgbClr val="ffffff"/>
                </a:solidFill>
                <a:latin typeface="Chalkboard"/>
                <a:ea typeface="Heiti SC Light"/>
              </a:rPr>
              <a:t>，</a:t>
            </a:r>
            <a:r>
              <a:rPr b="0" lang="en-US" sz="4200" spc="-1" strike="noStrike">
                <a:solidFill>
                  <a:srgbClr val="ffffff"/>
                </a:solidFill>
                <a:latin typeface="Chalkboard"/>
                <a:ea typeface="Heiti SC Light"/>
              </a:rPr>
              <a:t>long</a:t>
            </a:r>
            <a:r>
              <a:rPr b="0" lang="zh-CN" sz="4200" spc="-1" strike="noStrike">
                <a:solidFill>
                  <a:srgbClr val="ffffff"/>
                </a:solidFill>
                <a:latin typeface="Chalkboard"/>
                <a:ea typeface="Heiti SC Light"/>
              </a:rPr>
              <a:t>，</a:t>
            </a:r>
            <a:r>
              <a:rPr b="0" lang="en-US" sz="4200" spc="-1" strike="noStrike">
                <a:solidFill>
                  <a:srgbClr val="ffffff"/>
                </a:solidFill>
                <a:latin typeface="Chalkboard"/>
                <a:ea typeface="Heiti SC Light"/>
              </a:rPr>
              <a:t>double</a:t>
            </a:r>
            <a:r>
              <a:rPr b="0" lang="zh-CN" sz="4200" spc="-1" strike="noStrike">
                <a:solidFill>
                  <a:srgbClr val="ffffff"/>
                </a:solidFill>
                <a:latin typeface="Chalkboard"/>
                <a:ea typeface="Heiti SC Light"/>
              </a:rPr>
              <a:t>等</a:t>
            </a:r>
            <a:endParaRPr b="0" lang="en-US" sz="42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halkboard"/>
                <a:ea typeface="Heiti SC Light"/>
              </a:rPr>
              <a:t>(2)</a:t>
            </a:r>
            <a:r>
              <a:rPr b="0" lang="zh-CN" sz="4200" spc="-1" strike="noStrike">
                <a:solidFill>
                  <a:srgbClr val="ffffff"/>
                </a:solidFill>
                <a:latin typeface="Chalkboard"/>
                <a:ea typeface="Heiti SC Light"/>
              </a:rPr>
              <a:t>对象类型：</a:t>
            </a:r>
            <a:r>
              <a:rPr b="0" lang="en-US" sz="4200" spc="-1" strike="noStrike">
                <a:solidFill>
                  <a:srgbClr val="ffffff"/>
                </a:solidFill>
                <a:latin typeface="Chalkboard"/>
                <a:ea typeface="Heiti SC Light"/>
              </a:rPr>
              <a:t>NSNumber</a:t>
            </a:r>
            <a:endParaRPr b="0" lang="en-US" sz="4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  <a:ea typeface="Heiti SC Light"/>
              </a:rPr>
              <a:t>NSNumber</a:t>
            </a:r>
            <a:r>
              <a:rPr b="0" lang="zh-CN" sz="7200" spc="-1" strike="noStrike">
                <a:solidFill>
                  <a:srgbClr val="ffffff"/>
                </a:solidFill>
                <a:latin typeface="Chalkboard"/>
                <a:ea typeface="Heiti SC Light"/>
              </a:rPr>
              <a:t>常用方法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graphicFrame>
        <p:nvGraphicFramePr>
          <p:cNvPr id="458" name=""/>
          <p:cNvGraphicFramePr/>
          <p:nvPr/>
        </p:nvGraphicFramePr>
        <p:xfrm>
          <a:off x="851040" y="2449440"/>
          <a:ext cx="11302560" cy="6730920"/>
        </p:xfrm>
        <a:graphic>
          <a:graphicData uri="http://schemas.openxmlformats.org/drawingml/2006/table">
            <a:tbl>
              <a:tblPr/>
              <a:tblGrid>
                <a:gridCol w="3767400"/>
                <a:gridCol w="3767760"/>
                <a:gridCol w="3767400"/>
              </a:tblGrid>
              <a:tr h="4806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11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Chalkboard"/>
                          <a:ea typeface="Heiti SC Light"/>
                        </a:rPr>
                        <a:t>创建和初始化类方法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halkboard"/>
                      </a:endParaRPr>
                    </a:p>
                  </a:txBody>
                  <a:tcPr anchor="ctr" marL="50760" marR="507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blipFill rotWithShape="0">
                      <a:blip r:embed="rId2">
                        <a:alphaModFix amt="95000"/>
                      </a:blip>
                      <a:tile tx="0" ty="0" sx="100000" sy="100000" algn="ctr"/>
                    </a:blip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11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Chalkboard"/>
                          <a:ea typeface="Heiti SC Light"/>
                        </a:rPr>
                        <a:t>初始化实例方法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halkboard"/>
                      </a:endParaRPr>
                    </a:p>
                  </a:txBody>
                  <a:tcPr anchor="ctr" marL="50760" marR="507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blipFill rotWithShape="0">
                      <a:blip r:embed="rId3">
                        <a:alphaModFix amt="95000"/>
                      </a:blip>
                      <a:tile tx="0" ty="0" sx="100000" sy="100000" algn="ctr"/>
                    </a:blip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11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Chalkboard"/>
                          <a:ea typeface="Heiti SC Light"/>
                        </a:rPr>
                        <a:t>检索实例方法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halkboard"/>
                      </a:endParaRPr>
                    </a:p>
                  </a:txBody>
                  <a:tcPr anchor="ctr" marL="50760" marR="507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blipFill rotWithShape="0">
                      <a:blip r:embed="rId4">
                        <a:alphaModFix amt="95000"/>
                      </a:blip>
                      <a:tile tx="0" ty="0" sx="100000" sy="100000" algn="ctr"/>
                    </a:blipFill>
                  </a:tcPr>
                </a:tc>
              </a:tr>
              <a:tr h="48060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11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halkboard"/>
                          <a:ea typeface="Heiti SC Light"/>
                        </a:rPr>
                        <a:t>numberWithChar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halkboard"/>
                      </a:endParaRPr>
                    </a:p>
                  </a:txBody>
                  <a:tcPr anchor="ctr" marL="50760" marR="507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11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halkboard"/>
                          <a:ea typeface="Heiti SC Light"/>
                        </a:rPr>
                        <a:t>initWithChar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halkboard"/>
                      </a:endParaRPr>
                    </a:p>
                  </a:txBody>
                  <a:tcPr anchor="ctr" marL="50760" marR="507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11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halkboard"/>
                          <a:ea typeface="Heiti SC Light"/>
                        </a:rPr>
                        <a:t>char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halkboard"/>
                      </a:endParaRPr>
                    </a:p>
                  </a:txBody>
                  <a:tcPr anchor="ctr" marL="50760" marR="507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11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halkboard"/>
                          <a:ea typeface="Heiti SC Light"/>
                        </a:rPr>
                        <a:t>numberWithUnsignedChar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halkboard"/>
                      </a:endParaRPr>
                    </a:p>
                  </a:txBody>
                  <a:tcPr anchor="ctr" marL="50760" marR="507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11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halkboard"/>
                          <a:ea typeface="Heiti SC Light"/>
                        </a:rPr>
                        <a:t>initWithUnsignedChar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halkboard"/>
                      </a:endParaRPr>
                    </a:p>
                  </a:txBody>
                  <a:tcPr anchor="ctr" marL="50760" marR="507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11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halkboard"/>
                          <a:ea typeface="Heiti SC Light"/>
                        </a:rPr>
                        <a:t>unsignedChar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halkboard"/>
                      </a:endParaRPr>
                    </a:p>
                  </a:txBody>
                  <a:tcPr anchor="ctr" marL="50760" marR="507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11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halkboard"/>
                          <a:ea typeface="Heiti SC Light"/>
                        </a:rPr>
                        <a:t>numberWithShor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halkboard"/>
                      </a:endParaRPr>
                    </a:p>
                  </a:txBody>
                  <a:tcPr anchor="ctr" marL="50760" marR="507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11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halkboard"/>
                          <a:ea typeface="Heiti SC Light"/>
                        </a:rPr>
                        <a:t>initWithShor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halkboard"/>
                      </a:endParaRPr>
                    </a:p>
                  </a:txBody>
                  <a:tcPr anchor="ctr" marL="50760" marR="507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11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halkboard"/>
                          <a:ea typeface="Heiti SC Light"/>
                        </a:rPr>
                        <a:t>short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halkboard"/>
                      </a:endParaRPr>
                    </a:p>
                  </a:txBody>
                  <a:tcPr anchor="ctr" marL="50760" marR="507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060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11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halkboard"/>
                          <a:ea typeface="Heiti SC Light"/>
                        </a:rPr>
                        <a:t>numberWithUnsignedShor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halkboard"/>
                      </a:endParaRPr>
                    </a:p>
                  </a:txBody>
                  <a:tcPr anchor="ctr" marL="50760" marR="507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11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halkboard"/>
                          <a:ea typeface="Heiti SC Light"/>
                        </a:rPr>
                        <a:t>initWithUnsignedShor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halkboard"/>
                      </a:endParaRPr>
                    </a:p>
                  </a:txBody>
                  <a:tcPr anchor="ctr" marL="50760" marR="507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11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halkboard"/>
                          <a:ea typeface="Heiti SC Light"/>
                        </a:rPr>
                        <a:t>unsignedShort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halkboard"/>
                      </a:endParaRPr>
                    </a:p>
                  </a:txBody>
                  <a:tcPr anchor="ctr" marL="50760" marR="507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11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halkboard"/>
                          <a:ea typeface="Heiti SC Light"/>
                        </a:rPr>
                        <a:t>numberWithInteger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halkboard"/>
                      </a:endParaRPr>
                    </a:p>
                  </a:txBody>
                  <a:tcPr anchor="ctr" marL="50760" marR="507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11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halkboard"/>
                          <a:ea typeface="Heiti SC Light"/>
                        </a:rPr>
                        <a:t>initWithInteger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halkboard"/>
                      </a:endParaRPr>
                    </a:p>
                  </a:txBody>
                  <a:tcPr anchor="ctr" marL="50760" marR="507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11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halkboard"/>
                          <a:ea typeface="Heiti SC Light"/>
                        </a:rPr>
                        <a:t>integer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halkboard"/>
                      </a:endParaRPr>
                    </a:p>
                  </a:txBody>
                  <a:tcPr anchor="ctr" marL="50760" marR="507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060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11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halkboard"/>
                          <a:ea typeface="Heiti SC Light"/>
                        </a:rPr>
                        <a:t>numberWithUnsignedInteger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halkboard"/>
                      </a:endParaRPr>
                    </a:p>
                  </a:txBody>
                  <a:tcPr anchor="ctr" marL="50760" marR="507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11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halkboard"/>
                          <a:ea typeface="Heiti SC Light"/>
                        </a:rPr>
                        <a:t>initWithUnsignedInteger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halkboard"/>
                      </a:endParaRPr>
                    </a:p>
                  </a:txBody>
                  <a:tcPr anchor="ctr" marL="50760" marR="507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11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halkboard"/>
                          <a:ea typeface="Heiti SC Light"/>
                        </a:rPr>
                        <a:t>unsignedInteger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halkboard"/>
                      </a:endParaRPr>
                    </a:p>
                  </a:txBody>
                  <a:tcPr anchor="ctr" marL="50760" marR="507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060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11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halkboard"/>
                          <a:ea typeface="Heiti SC Light"/>
                        </a:rPr>
                        <a:t>numberWithIn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halkboard"/>
                      </a:endParaRPr>
                    </a:p>
                  </a:txBody>
                  <a:tcPr anchor="ctr" marL="50760" marR="507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11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halkboard"/>
                          <a:ea typeface="Heiti SC Light"/>
                        </a:rPr>
                        <a:t>initWithIn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halkboard"/>
                      </a:endParaRPr>
                    </a:p>
                  </a:txBody>
                  <a:tcPr anchor="ctr" marL="50760" marR="507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11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halkboard"/>
                          <a:ea typeface="Heiti SC Light"/>
                        </a:rPr>
                        <a:t>int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halkboard"/>
                      </a:endParaRPr>
                    </a:p>
                  </a:txBody>
                  <a:tcPr anchor="ctr" marL="50760" marR="507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11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halkboard"/>
                          <a:ea typeface="Heiti SC Light"/>
                        </a:rPr>
                        <a:t>numberWithUnsignedIn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halkboard"/>
                      </a:endParaRPr>
                    </a:p>
                  </a:txBody>
                  <a:tcPr anchor="ctr" marL="50760" marR="507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11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halkboard"/>
                          <a:ea typeface="Heiti SC Light"/>
                        </a:rPr>
                        <a:t>initWithUnsignedIn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halkboard"/>
                      </a:endParaRPr>
                    </a:p>
                  </a:txBody>
                  <a:tcPr anchor="ctr" marL="50760" marR="507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11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halkboard"/>
                          <a:ea typeface="Heiti SC Light"/>
                        </a:rPr>
                        <a:t>unsignedInt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halkboard"/>
                      </a:endParaRPr>
                    </a:p>
                  </a:txBody>
                  <a:tcPr anchor="ctr" marL="50760" marR="507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060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11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halkboard"/>
                          <a:ea typeface="Heiti SC Light"/>
                        </a:rPr>
                        <a:t>numberWithLong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halkboard"/>
                      </a:endParaRPr>
                    </a:p>
                  </a:txBody>
                  <a:tcPr anchor="ctr" marL="50760" marR="507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11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halkboard"/>
                          <a:ea typeface="Heiti SC Light"/>
                        </a:rPr>
                        <a:t>initWithLong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halkboard"/>
                      </a:endParaRPr>
                    </a:p>
                  </a:txBody>
                  <a:tcPr anchor="ctr" marL="50760" marR="507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11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halkboard"/>
                          <a:ea typeface="Heiti SC Light"/>
                        </a:rPr>
                        <a:t>long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halkboard"/>
                      </a:endParaRPr>
                    </a:p>
                  </a:txBody>
                  <a:tcPr anchor="ctr" marL="50760" marR="507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11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halkboard"/>
                          <a:ea typeface="Heiti SC Light"/>
                        </a:rPr>
                        <a:t>numberWithUnsignedLong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halkboard"/>
                      </a:endParaRPr>
                    </a:p>
                  </a:txBody>
                  <a:tcPr anchor="ctr" marL="50760" marR="507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11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halkboard"/>
                          <a:ea typeface="Heiti SC Light"/>
                        </a:rPr>
                        <a:t>initWithUnsignedLong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halkboard"/>
                      </a:endParaRPr>
                    </a:p>
                  </a:txBody>
                  <a:tcPr anchor="ctr" marL="50760" marR="507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11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halkboard"/>
                          <a:ea typeface="Heiti SC Light"/>
                        </a:rPr>
                        <a:t>unsignedLong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halkboard"/>
                      </a:endParaRPr>
                    </a:p>
                  </a:txBody>
                  <a:tcPr anchor="ctr" marL="50760" marR="507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11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halkboard"/>
                          <a:ea typeface="Heiti SC Light"/>
                        </a:rPr>
                        <a:t>numberWithFloa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halkboard"/>
                      </a:endParaRPr>
                    </a:p>
                  </a:txBody>
                  <a:tcPr anchor="ctr" marL="50760" marR="507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11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halkboard"/>
                          <a:ea typeface="Heiti SC Light"/>
                        </a:rPr>
                        <a:t>initWithFloa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halkboard"/>
                      </a:endParaRPr>
                    </a:p>
                  </a:txBody>
                  <a:tcPr anchor="ctr" marL="50760" marR="507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11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halkboard"/>
                          <a:ea typeface="Heiti SC Light"/>
                        </a:rPr>
                        <a:t>float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halkboard"/>
                      </a:endParaRPr>
                    </a:p>
                  </a:txBody>
                  <a:tcPr anchor="ctr" marL="50760" marR="507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060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11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halkboard"/>
                          <a:ea typeface="Heiti SC Light"/>
                        </a:rPr>
                        <a:t>numberWithDouble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halkboard"/>
                      </a:endParaRPr>
                    </a:p>
                  </a:txBody>
                  <a:tcPr anchor="ctr" marL="50760" marR="507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11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halkboard"/>
                          <a:ea typeface="Heiti SC Light"/>
                        </a:rPr>
                        <a:t>initWithDouble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halkboard"/>
                      </a:endParaRPr>
                    </a:p>
                  </a:txBody>
                  <a:tcPr anchor="ctr" marL="50760" marR="507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11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halkboard"/>
                          <a:ea typeface="Heiti SC Light"/>
                        </a:rPr>
                        <a:t>double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halkboard"/>
                      </a:endParaRPr>
                    </a:p>
                  </a:txBody>
                  <a:tcPr anchor="ctr" marL="50760" marR="507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11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halkboard"/>
                          <a:ea typeface="Heiti SC Light"/>
                        </a:rPr>
                        <a:t>numberWithBool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halkboard"/>
                      </a:endParaRPr>
                    </a:p>
                  </a:txBody>
                  <a:tcPr anchor="ctr" marL="50760" marR="507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11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halkboard"/>
                          <a:ea typeface="Heiti SC Light"/>
                        </a:rPr>
                        <a:t>initWithBool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halkboard"/>
                      </a:endParaRPr>
                    </a:p>
                  </a:txBody>
                  <a:tcPr anchor="ctr" marL="50760" marR="507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11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halkboard"/>
                          <a:ea typeface="Heiti SC Light"/>
                        </a:rPr>
                        <a:t>bool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halkboard"/>
                      </a:endParaRPr>
                    </a:p>
                  </a:txBody>
                  <a:tcPr anchor="ctr" marL="50760" marR="507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NSNumber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460" name="" descr=""/>
          <p:cNvPicPr/>
          <p:nvPr/>
        </p:nvPicPr>
        <p:blipFill>
          <a:blip r:embed="rId2"/>
          <a:stretch/>
        </p:blipFill>
        <p:spPr>
          <a:xfrm>
            <a:off x="1689120" y="2451240"/>
            <a:ext cx="9613800" cy="671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Chalkboard"/>
                <a:ea typeface="Heiti SC Light"/>
              </a:rPr>
              <a:t>其他方法：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2" name=""/>
          <p:cNvSpPr/>
          <p:nvPr/>
        </p:nvSpPr>
        <p:spPr>
          <a:xfrm>
            <a:off x="1841400" y="3225960"/>
            <a:ext cx="10096560" cy="42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Heiti SC Light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Heiti SC Light"/>
              </a:rPr>
              <a:t>，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isEqualToNumb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Heiti SC Light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Heiti SC Light"/>
              </a:rPr>
              <a:t>比较两个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NSNumber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Heiti SC Light"/>
              </a:rPr>
              <a:t>对象的数值是否相等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  <a:ea typeface="Heiti SC Light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Courier New"/>
                <a:ea typeface="Heiti SC Light"/>
              </a:rPr>
              <a:t>，</a:t>
            </a:r>
            <a:r>
              <a:rPr b="0" lang="en-US" sz="3200" spc="-1" strike="noStrike">
                <a:solidFill>
                  <a:srgbClr val="ffff00"/>
                </a:solidFill>
                <a:latin typeface="Courier New Bold"/>
                <a:ea typeface="Courier New Bold"/>
              </a:rPr>
              <a:t>compare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  <a:ea typeface="Heiti SC Light"/>
              </a:rPr>
              <a:t>:</a:t>
            </a:r>
            <a:r>
              <a:rPr b="0" lang="zh-CN" sz="3200" spc="-1" strike="noStrike">
                <a:solidFill>
                  <a:srgbClr val="ffffff"/>
                </a:solidFill>
                <a:latin typeface="Courier New"/>
                <a:ea typeface="Heiti SC Light"/>
              </a:rPr>
              <a:t>比较一个数值型的值是否在数值上小于、等于或大于另外一个值，返回下面三种结果：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  <a:ea typeface="Heiti SC Light"/>
              </a:rPr>
              <a:t>NSOrderedAscending</a:t>
            </a:r>
            <a:r>
              <a:rPr b="0" lang="zh-CN" sz="3200" spc="-1" strike="noStrike">
                <a:solidFill>
                  <a:srgbClr val="ffffff"/>
                </a:solidFill>
                <a:latin typeface="Courier New"/>
                <a:ea typeface="Heiti SC Light"/>
              </a:rPr>
              <a:t>（小于）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  <a:ea typeface="Heiti SC Light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  <a:ea typeface="Heiti SC Light"/>
              </a:rPr>
              <a:t>NSOrderedDescending</a:t>
            </a:r>
            <a:r>
              <a:rPr b="0" lang="zh-CN" sz="3200" spc="-1" strike="noStrike">
                <a:solidFill>
                  <a:srgbClr val="ffffff"/>
                </a:solidFill>
                <a:latin typeface="Courier New"/>
                <a:ea typeface="Heiti SC Light"/>
              </a:rPr>
              <a:t>（大于）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  <a:ea typeface="Heiti SC Light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  <a:ea typeface="Heiti SC Light"/>
              </a:rPr>
              <a:t>NSOrderSame</a:t>
            </a:r>
            <a:r>
              <a:rPr b="0" lang="zh-CN" sz="3200" spc="-1" strike="noStrike">
                <a:solidFill>
                  <a:srgbClr val="ffffff"/>
                </a:solidFill>
                <a:latin typeface="Courier New"/>
                <a:ea typeface="Heiti SC Light"/>
              </a:rPr>
              <a:t>（等于）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  <a:ea typeface="Heiti SC Light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Chalkboard"/>
                <a:ea typeface="Heiti SC Light"/>
              </a:rPr>
              <a:t>说明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269720" y="2945880"/>
            <a:ext cx="10464840" cy="213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从</a:t>
            </a:r>
            <a:r>
              <a:rPr b="0" lang="en-US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NSNumber</a:t>
            </a:r>
            <a:r>
              <a:rPr b="0" lang="zh-CN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对象获得值必须和存储在其中的值类型一致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